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D55D-BF1E-4A34-9C5B-E9A4838DB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64C4-9D9B-4FA3-964E-ACB1C06D7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91080" cy="34434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854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767760"/>
            <a:ext cx="854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13940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13940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76776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76776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76776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13940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0" y="380520"/>
            <a:ext cx="6327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767760"/>
            <a:ext cx="854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dfd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301680" y="113940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601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425600" indent="-338040"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830240" indent="-290520">
              <a:spcBef>
                <a:spcPts val="601"/>
              </a:spcBef>
              <a:buClr>
                <a:srgbClr val="00808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68640" indent="-223920">
              <a:spcBef>
                <a:spcPts val="601"/>
              </a:spcBef>
              <a:buClr>
                <a:srgbClr val="00808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68640" indent="-223920">
              <a:spcBef>
                <a:spcPts val="601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68640" indent="-223920">
              <a:spcBef>
                <a:spcPts val="601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2057400" y="990720"/>
            <a:ext cx="6781680" cy="0"/>
          </a:xfrm>
          <a:prstGeom prst="line">
            <a:avLst/>
          </a:prstGeom>
          <a:ln w="1015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957680" cy="94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dfd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2133360"/>
            <a:ext cx="66294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_50025 Enhance ESI ID Look-up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4920" y="3124080"/>
            <a:ext cx="6248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of Options on ESI ID Service Order data within the TDSP ESI ID Repor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mber 3, 20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dfd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_50025 Background &amp; Statu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93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es PRR 312, priority of 1.2, ranked 34 on the 2005 PP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split into 2 phases (See slide 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project state:  planning ph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 have been comple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ring two options in Detail Design at 11/3/05 DEW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Service Order Option is recommende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5600" indent="-3380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DL will be finaliz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5600" indent="-3380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DL &amp; Market Notice to go 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Vote at November RM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dfd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d Approach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8540640" cy="55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42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ase One: Update TDSP ESI ID Extract: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mise Type and updated DDL with null values for Station ID, Power Region, Metered/Un-metered Flag, Pending Move-in/Move-out that will be delivered in Phase 2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te DDL with null values until fields are available in Phase Two (see below); Premise Type values would be available immediatel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ires only one change to DD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ase Two: Update TML, extract and API (ensuring synchronization) to includ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on I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 Reg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ered/Un-metered Fla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nding Move-in/Move-ou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loyment Date impacted by following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constrai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425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dfd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s for Service Order Inf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8540640" cy="54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42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ption 1: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Option Recommended by DEWG at 11/03/05 Mee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one column to end of DDL to allow concatenation of all pending Service Orders logged at ERCOT per ESI I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limited number of service orders to repo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ble column length depending on number pending Service Ord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42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42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ption 2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ten (10) null columns to end of DD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imum reporting number of Service Orders = 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425600" indent="-33804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eduled Date and Order Type data would be populated in separate columns (10 / 2 = 5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425600" indent="-33804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ore than 5 Service Orders existed, they would not be included on the repor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ential impact to extract production performan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5T03:41:46Z</dcterms:created>
  <dc:creator>Steve Wallace</dc:creator>
  <dc:description/>
  <dc:language>en-US</dc:language>
  <cp:lastModifiedBy>Jlavas</cp:lastModifiedBy>
  <cp:lastPrinted>2009-04-22T19:24:48Z</cp:lastPrinted>
  <dcterms:modified xsi:type="dcterms:W3CDTF">2005-11-07T14:51:32Z</dcterms:modified>
  <cp:revision>153</cp:revision>
  <dc:subject/>
  <dc:title>ERCOT POS MOS V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